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940-488D-4E60-9D7D-AA23065E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207-7474-4397-B388-8F48404C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A67-2B0C-436F-9242-26BCAF75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976-C606-46F9-B518-8AC00B32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0A08-1C70-4730-AD97-F29816BA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4C05-0F9F-4E81-AA5A-A8FA6374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DE15-098B-4A20-A2E4-BCF760EC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3831-8A98-4735-8962-CDAD66EA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937-C5BF-4F74-9C06-F4B07E37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E193-8AAD-46B9-9A80-F59C6499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0E94-E51E-4DE8-BBBA-5751608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ADB-1DFC-462B-B6C5-14385841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55E6-89E0-427A-8031-233649E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E4FD-8E5E-4C44-B7FF-B2FA0DB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39BB-BCC3-41D3-AA30-8F91E7F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B6F3-B3A0-45CC-9258-D4CEC06A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BDE0-352A-4E40-A19A-95D27830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2B3-4CC1-4713-895A-73CAA10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870-0158-433B-A110-F1CC6CA1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12D-FF5C-4EF1-8DD9-DF006FC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6AE-F145-4491-8E5A-E3C09B0D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C0F-5246-40C6-8075-D37F964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2F2-D011-442D-AC79-8E0CA85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0EC-D142-4B70-B34A-4FE94AC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A97F-B7B2-4639-8208-EAB570EC5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46F9-FF8D-4389-8A97-9DEAD2A3B2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 / CISC Architectures’ Performance comparison assuming similar H/W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876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iuhua Ca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iam Green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ngdu Hua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mar Manve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240" y="10666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figure1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4202280"/>
          </a:xfrm>
          <a:prstGeom prst="rect">
            <a:avLst/>
          </a:prstGeom>
          <a:ln w="0">
            <a:noFill/>
          </a:ln>
        </p:spPr>
      </p:pic>
      <p:pic>
        <p:nvPicPr>
          <p:cNvPr id="126" name="figure21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28744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57800" y="990720"/>
            <a:ext cx="2666880" cy="1523880"/>
          </a:xfrm>
          <a:prstGeom prst="cloudCallout">
            <a:avLst>
              <a:gd name="adj1" fmla="val -20893"/>
              <a:gd name="adj2" fmla="val 8416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&lt;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figure1" descr=""/>
          <p:cNvPicPr/>
          <p:nvPr/>
        </p:nvPicPr>
        <p:blipFill>
          <a:blip r:embed="rId1"/>
          <a:stretch/>
        </p:blipFill>
        <p:spPr>
          <a:xfrm>
            <a:off x="533520" y="2319480"/>
            <a:ext cx="8153280" cy="4270320"/>
          </a:xfrm>
          <a:prstGeom prst="rect">
            <a:avLst/>
          </a:prstGeom>
          <a:ln w="0">
            <a:noFill/>
          </a:ln>
        </p:spPr>
      </p:pic>
      <p:pic>
        <p:nvPicPr>
          <p:cNvPr id="130" name="figure4" descr=""/>
          <p:cNvPicPr/>
          <p:nvPr/>
        </p:nvPicPr>
        <p:blipFill>
          <a:blip r:embed="rId2"/>
          <a:stretch/>
        </p:blipFill>
        <p:spPr>
          <a:xfrm>
            <a:off x="2405160" y="2590920"/>
            <a:ext cx="1719000" cy="3962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1219320"/>
            <a:ext cx="3200400" cy="1447560"/>
          </a:xfrm>
          <a:prstGeom prst="cloudCallout">
            <a:avLst>
              <a:gd name="adj1" fmla="val -75745"/>
              <a:gd name="adj2" fmla="val 56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exe/ VAX 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240" y="106668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figure1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20120" cy="4245120"/>
          </a:xfrm>
          <a:prstGeom prst="rect">
            <a:avLst/>
          </a:prstGeom>
          <a:ln w="0">
            <a:noFill/>
          </a:ln>
        </p:spPr>
      </p:pic>
      <p:pic>
        <p:nvPicPr>
          <p:cNvPr id="134" name="figure3" descr=""/>
          <p:cNvPicPr/>
          <p:nvPr/>
        </p:nvPicPr>
        <p:blipFill>
          <a:blip r:embed="rId2"/>
          <a:stretch/>
        </p:blipFill>
        <p:spPr>
          <a:xfrm>
            <a:off x="6019920" y="2895480"/>
            <a:ext cx="131292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86400" y="1143000"/>
            <a:ext cx="3352680" cy="1371600"/>
          </a:xfrm>
          <a:prstGeom prst="cloudCallout">
            <a:avLst>
              <a:gd name="adj1" fmla="val -11694"/>
              <a:gd name="adj2" fmla="val 8148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X CPI/ MIPS C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3520" y="1066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figure1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858000" cy="3819600"/>
          </a:xfrm>
          <a:prstGeom prst="rect">
            <a:avLst/>
          </a:prstGeom>
          <a:ln w="0">
            <a:noFill/>
          </a:ln>
        </p:spPr>
      </p:pic>
      <p:pic>
        <p:nvPicPr>
          <p:cNvPr id="138" name="figure3" descr=""/>
          <p:cNvPicPr/>
          <p:nvPr/>
        </p:nvPicPr>
        <p:blipFill>
          <a:blip r:embed="rId2"/>
          <a:stretch/>
        </p:blipFill>
        <p:spPr>
          <a:xfrm>
            <a:off x="5867280" y="2971800"/>
            <a:ext cx="1094040" cy="3124080"/>
          </a:xfrm>
          <a:prstGeom prst="rect">
            <a:avLst/>
          </a:prstGeom>
          <a:ln w="0">
            <a:noFill/>
          </a:ln>
        </p:spPr>
      </p:pic>
      <p:pic>
        <p:nvPicPr>
          <p:cNvPr id="139" name="figure4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127944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figure31" descr=""/>
          <p:cNvPicPr/>
          <p:nvPr/>
        </p:nvPicPr>
        <p:blipFill>
          <a:blip r:embed="rId4"/>
          <a:stretch/>
        </p:blipFill>
        <p:spPr>
          <a:xfrm>
            <a:off x="6934320" y="2743200"/>
            <a:ext cx="1090440" cy="3352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43400" y="1143000"/>
            <a:ext cx="4114800" cy="1371600"/>
          </a:xfrm>
          <a:prstGeom prst="cloudCallout">
            <a:avLst>
              <a:gd name="adj1" fmla="val 14546"/>
              <a:gd name="adj2" fmla="val 703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Effect o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s per program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71240" y="10666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figure1" descr=""/>
          <p:cNvPicPr/>
          <p:nvPr/>
        </p:nvPicPr>
        <p:blipFill>
          <a:blip r:embed="rId1"/>
          <a:stretch/>
        </p:blipFill>
        <p:spPr>
          <a:xfrm>
            <a:off x="533520" y="2055960"/>
            <a:ext cx="8076960" cy="4498920"/>
          </a:xfrm>
          <a:prstGeom prst="rect">
            <a:avLst/>
          </a:prstGeom>
          <a:ln w="0">
            <a:noFill/>
          </a:ln>
        </p:spPr>
      </p:pic>
      <p:pic>
        <p:nvPicPr>
          <p:cNvPr id="144" name="figure3" descr=""/>
          <p:cNvPicPr/>
          <p:nvPr/>
        </p:nvPicPr>
        <p:blipFill>
          <a:blip r:embed="rId2"/>
          <a:stretch/>
        </p:blipFill>
        <p:spPr>
          <a:xfrm>
            <a:off x="5958000" y="2666880"/>
            <a:ext cx="1334880" cy="3810240"/>
          </a:xfrm>
          <a:prstGeom prst="rect">
            <a:avLst/>
          </a:prstGeom>
          <a:ln w="0">
            <a:noFill/>
          </a:ln>
        </p:spPr>
      </p:pic>
      <p:pic>
        <p:nvPicPr>
          <p:cNvPr id="145" name="figure4" descr=""/>
          <p:cNvPicPr/>
          <p:nvPr/>
        </p:nvPicPr>
        <p:blipFill>
          <a:blip r:embed="rId3"/>
          <a:stretch/>
        </p:blipFill>
        <p:spPr>
          <a:xfrm>
            <a:off x="2438280" y="2438280"/>
            <a:ext cx="1541520" cy="4038840"/>
          </a:xfrm>
          <a:prstGeom prst="rect">
            <a:avLst/>
          </a:prstGeom>
          <a:ln w="0">
            <a:noFill/>
          </a:ln>
        </p:spPr>
      </p:pic>
      <p:pic>
        <p:nvPicPr>
          <p:cNvPr id="146" name="figure31" descr=""/>
          <p:cNvPicPr/>
          <p:nvPr/>
        </p:nvPicPr>
        <p:blipFill>
          <a:blip r:embed="rId4"/>
          <a:stretch/>
        </p:blipFill>
        <p:spPr>
          <a:xfrm>
            <a:off x="7189920" y="2286000"/>
            <a:ext cx="1361880" cy="4191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24280" y="1143000"/>
            <a:ext cx="3048120" cy="1143000"/>
          </a:xfrm>
          <a:prstGeom prst="cloudCallout">
            <a:avLst>
              <a:gd name="adj1" fmla="val 29217"/>
              <a:gd name="adj2" fmla="val 1144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 is the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igure32" descr=""/>
          <p:cNvPicPr/>
          <p:nvPr/>
        </p:nvPicPr>
        <p:blipFill>
          <a:blip r:embed="rId5"/>
          <a:stretch/>
        </p:blipFill>
        <p:spPr>
          <a:xfrm>
            <a:off x="533520" y="3048120"/>
            <a:ext cx="8001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figure1" descr=""/>
          <p:cNvPicPr/>
          <p:nvPr/>
        </p:nvPicPr>
        <p:blipFill>
          <a:blip r:embed="rId1"/>
          <a:stretch/>
        </p:blipFill>
        <p:spPr>
          <a:xfrm>
            <a:off x="533520" y="2055960"/>
            <a:ext cx="8076960" cy="4498920"/>
          </a:xfrm>
          <a:prstGeom prst="rect">
            <a:avLst/>
          </a:prstGeom>
          <a:ln w="0">
            <a:noFill/>
          </a:ln>
        </p:spPr>
      </p:pic>
      <p:pic>
        <p:nvPicPr>
          <p:cNvPr id="151" name="figure3" descr=""/>
          <p:cNvPicPr/>
          <p:nvPr/>
        </p:nvPicPr>
        <p:blipFill>
          <a:blip r:embed="rId2"/>
          <a:stretch/>
        </p:blipFill>
        <p:spPr>
          <a:xfrm>
            <a:off x="5958000" y="2666880"/>
            <a:ext cx="1334880" cy="3810240"/>
          </a:xfrm>
          <a:prstGeom prst="rect">
            <a:avLst/>
          </a:prstGeom>
          <a:ln w="0">
            <a:noFill/>
          </a:ln>
        </p:spPr>
      </p:pic>
      <p:pic>
        <p:nvPicPr>
          <p:cNvPr id="152" name="figure4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1541520" cy="4038480"/>
          </a:xfrm>
          <a:prstGeom prst="rect">
            <a:avLst/>
          </a:prstGeom>
          <a:ln w="0">
            <a:noFill/>
          </a:ln>
        </p:spPr>
      </p:pic>
      <p:pic>
        <p:nvPicPr>
          <p:cNvPr id="153" name="figure31" descr=""/>
          <p:cNvPicPr/>
          <p:nvPr/>
        </p:nvPicPr>
        <p:blipFill>
          <a:blip r:embed="rId4"/>
          <a:stretch/>
        </p:blipFill>
        <p:spPr>
          <a:xfrm>
            <a:off x="7189920" y="2286000"/>
            <a:ext cx="1361880" cy="4191120"/>
          </a:xfrm>
          <a:prstGeom prst="rect">
            <a:avLst/>
          </a:prstGeom>
          <a:ln w="0">
            <a:noFill/>
          </a:ln>
        </p:spPr>
      </p:pic>
      <p:pic>
        <p:nvPicPr>
          <p:cNvPr id="154" name="figure33" descr=""/>
          <p:cNvPicPr/>
          <p:nvPr/>
        </p:nvPicPr>
        <p:blipFill>
          <a:blip r:embed="rId5"/>
          <a:stretch/>
        </p:blipFill>
        <p:spPr>
          <a:xfrm>
            <a:off x="533520" y="5029200"/>
            <a:ext cx="8001000" cy="1371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95680" y="1066680"/>
            <a:ext cx="3810240" cy="1447920"/>
          </a:xfrm>
          <a:prstGeom prst="cloudCallout">
            <a:avLst>
              <a:gd name="adj1" fmla="val -38291"/>
              <a:gd name="adj2" fmla="val 221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integer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iggest R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ins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240" y="9903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figure1" descr=""/>
          <p:cNvPicPr/>
          <p:nvPr/>
        </p:nvPicPr>
        <p:blipFill>
          <a:blip r:embed="rId1"/>
          <a:stretch/>
        </p:blipFill>
        <p:spPr>
          <a:xfrm>
            <a:off x="533520" y="2055960"/>
            <a:ext cx="8076960" cy="4498920"/>
          </a:xfrm>
          <a:prstGeom prst="rect">
            <a:avLst/>
          </a:prstGeom>
          <a:ln w="0">
            <a:noFill/>
          </a:ln>
        </p:spPr>
      </p:pic>
      <p:pic>
        <p:nvPicPr>
          <p:cNvPr id="158" name="figure3" descr=""/>
          <p:cNvPicPr/>
          <p:nvPr/>
        </p:nvPicPr>
        <p:blipFill>
          <a:blip r:embed="rId2"/>
          <a:stretch/>
        </p:blipFill>
        <p:spPr>
          <a:xfrm>
            <a:off x="5958000" y="2666880"/>
            <a:ext cx="1334880" cy="3810240"/>
          </a:xfrm>
          <a:prstGeom prst="rect">
            <a:avLst/>
          </a:prstGeom>
          <a:ln w="0">
            <a:noFill/>
          </a:ln>
        </p:spPr>
      </p:pic>
      <p:pic>
        <p:nvPicPr>
          <p:cNvPr id="159" name="figure4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1541520" cy="4038480"/>
          </a:xfrm>
          <a:prstGeom prst="rect">
            <a:avLst/>
          </a:prstGeom>
          <a:ln w="0">
            <a:noFill/>
          </a:ln>
        </p:spPr>
      </p:pic>
      <p:pic>
        <p:nvPicPr>
          <p:cNvPr id="160" name="figure31" descr=""/>
          <p:cNvPicPr/>
          <p:nvPr/>
        </p:nvPicPr>
        <p:blipFill>
          <a:blip r:embed="rId4"/>
          <a:stretch/>
        </p:blipFill>
        <p:spPr>
          <a:xfrm>
            <a:off x="7189920" y="2286000"/>
            <a:ext cx="1361880" cy="4191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495680" y="1066680"/>
            <a:ext cx="3810240" cy="1447920"/>
          </a:xfrm>
          <a:prstGeom prst="cloudCallout">
            <a:avLst>
              <a:gd name="adj1" fmla="val -55958"/>
              <a:gd name="adj2" fmla="val 8333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lowest R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lowest CPI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figure34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8001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figure5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2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71240" y="11430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figure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55040" cy="4648320"/>
          </a:xfrm>
          <a:prstGeom prst="rect">
            <a:avLst/>
          </a:prstGeom>
          <a:ln w="0">
            <a:noFill/>
          </a:ln>
        </p:spPr>
      </p:pic>
      <p:pic>
        <p:nvPicPr>
          <p:cNvPr id="167" name="figure7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2637000" cy="403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1066680"/>
            <a:ext cx="4572000" cy="1219320"/>
          </a:xfrm>
          <a:prstGeom prst="cloudCallout">
            <a:avLst>
              <a:gd name="adj1" fmla="val -54342"/>
              <a:gd name="adj2" fmla="val 82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per inst &lt; VAX per i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also equals VAS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figure5" descr=""/>
          <p:cNvPicPr/>
          <p:nvPr/>
        </p:nvPicPr>
        <p:blipFill>
          <a:blip r:embed="rId1"/>
          <a:stretch/>
        </p:blipFill>
        <p:spPr>
          <a:xfrm>
            <a:off x="208080" y="1828800"/>
            <a:ext cx="878364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34120" y="1066680"/>
            <a:ext cx="2895480" cy="838440"/>
          </a:xfrm>
          <a:prstGeom prst="cloudCallout">
            <a:avLst>
              <a:gd name="adj1" fmla="val -62171"/>
              <a:gd name="adj2" fmla="val 1399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&lt;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igure51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155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ces between RISC / CI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tative performanc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Behavi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study of one(two ??) benchmarks(fp behaviou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tors favoring RISC , CIS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que / 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371600" y="9144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figure5" descr=""/>
          <p:cNvPicPr/>
          <p:nvPr/>
        </p:nvPicPr>
        <p:blipFill>
          <a:blip r:embed="rId1"/>
          <a:stretch/>
        </p:blipFill>
        <p:spPr>
          <a:xfrm>
            <a:off x="208080" y="1828800"/>
            <a:ext cx="878364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52880" y="1066680"/>
            <a:ext cx="3733920" cy="838440"/>
          </a:xfrm>
          <a:prstGeom prst="cloudCallout">
            <a:avLst>
              <a:gd name="adj1" fmla="val -23046"/>
              <a:gd name="adj2" fmla="val 3142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mem&lt; VAX 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figure52" descr=""/>
          <p:cNvPicPr/>
          <p:nvPr/>
        </p:nvPicPr>
        <p:blipFill>
          <a:blip r:embed="rId2"/>
          <a:stretch/>
        </p:blipFill>
        <p:spPr>
          <a:xfrm>
            <a:off x="0" y="4191120"/>
            <a:ext cx="8991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240" y="9903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figure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23880" y="9144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figure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4724280"/>
          </a:xfrm>
          <a:prstGeom prst="rect">
            <a:avLst/>
          </a:prstGeom>
          <a:ln w="0">
            <a:noFill/>
          </a:ln>
        </p:spPr>
      </p:pic>
      <p:pic>
        <p:nvPicPr>
          <p:cNvPr id="181" name="figure61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534160" cy="99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952880" y="1066680"/>
            <a:ext cx="3733920" cy="838440"/>
          </a:xfrm>
          <a:prstGeom prst="cloudCallout">
            <a:avLst>
              <a:gd name="adj1" fmla="val -38689"/>
              <a:gd name="adj2" fmla="val 2142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highest mis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RISC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7160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figure6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1371600"/>
            <a:ext cx="3733920" cy="838080"/>
          </a:xfrm>
          <a:prstGeom prst="cloudCallout">
            <a:avLst>
              <a:gd name="adj1" fmla="val -95152"/>
              <a:gd name="adj2" fmla="val 129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IPS &gt; some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igure62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152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762120"/>
          <a:ext cx="89866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866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V="1">
            <a:off x="914400" y="1294920"/>
            <a:ext cx="7696080" cy="342900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57200"/>
            <a:ext cx="2743200" cy="533520"/>
          </a:xfrm>
          <a:prstGeom prst="wedgeRectCallout">
            <a:avLst>
              <a:gd name="adj1" fmla="val 60416"/>
              <a:gd name="adj2" fmla="val 1333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= 2.66 ×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pppp benchm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st CPI Ratio, Highest INST Ratio, High RISC fa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number of FP L/S ops on MIPS; High density of double precision operand  specifiers on V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fast FP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 has no instruction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erand specifier deco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hree-register integer ad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X: 4 cycles ; MIPS: 1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mber of Regi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: 15 32-bit general re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: 32 32-bit general regs and 16 64-bit FP re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P Hardware/Instruction Overl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ovement between c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register destination FP ops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mple Jump/branch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 Condition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ancy VAX Instru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ecessary functionality and unnecessary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VAX procedure call and return 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ction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can fill delay sl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lation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a larger pag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Displacement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: 8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: 16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the paper sugges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 has many performance advantages over CI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ycle L/S instruction (faster,low overhea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ired control  ; vastly reduced chip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gisters/less MEM refer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ST format,fewer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 accesses are not tightly bound to IN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VA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ig I-stream Consta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t-taken Branch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nce of the RISC Fa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se correlation with D-cache mi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st RISC factor: 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st D-cache miss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function call overhead for V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unaligned mem refs for V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st RISC factor: sp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CISC &amp; RIS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X may be able to catch up to current RISC architec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e 4 from p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 will incorporate advanced implementation techniq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X will always play “catch up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2057400"/>
            <a:ext cx="7652880" cy="4263840"/>
            <a:chOff x="914400" y="2057400"/>
            <a:chExt cx="7652880" cy="4263840"/>
          </a:xfrm>
        </p:grpSpPr>
        <p:sp>
          <p:nvSpPr>
            <p:cNvPr id="209" name=""/>
            <p:cNvSpPr/>
            <p:nvPr/>
          </p:nvSpPr>
          <p:spPr>
            <a:xfrm>
              <a:off x="6654600" y="5671440"/>
              <a:ext cx="19126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41920" y="5671440"/>
              <a:ext cx="191232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2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27080" y="5671440"/>
              <a:ext cx="19144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14400" y="5671440"/>
              <a:ext cx="1912680" cy="6498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RISC-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4600" y="5023800"/>
              <a:ext cx="19126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41920" y="5023800"/>
              <a:ext cx="19123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2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27080" y="5023800"/>
              <a:ext cx="19144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5023800"/>
              <a:ext cx="1912680" cy="6476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Inst. Rat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4600" y="4374360"/>
              <a:ext cx="19126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.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41920" y="4374360"/>
              <a:ext cx="19123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5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7080" y="4374360"/>
              <a:ext cx="19144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4374360"/>
              <a:ext cx="1912680" cy="6490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PI Rat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54600" y="3724560"/>
              <a:ext cx="19126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1920" y="3724560"/>
              <a:ext cx="191232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27080" y="3724560"/>
              <a:ext cx="19144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" y="3724560"/>
              <a:ext cx="1912680" cy="6498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IPS C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4600" y="3074760"/>
              <a:ext cx="19126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7.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41920" y="3074760"/>
              <a:ext cx="191232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9.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27080" y="3074760"/>
              <a:ext cx="19144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5.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4400" y="3074760"/>
              <a:ext cx="1912680" cy="6498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VAX C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54600" y="2057400"/>
              <a:ext cx="191268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41920" y="2057400"/>
              <a:ext cx="191232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Geometric Me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27080" y="2057400"/>
              <a:ext cx="191448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4400" y="2057400"/>
              <a:ext cx="191268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2057400"/>
              <a:ext cx="76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307476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372456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14400" y="437436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502380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567144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6321240"/>
              <a:ext cx="76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2057400"/>
              <a:ext cx="0" cy="42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7080" y="2057400"/>
              <a:ext cx="0" cy="42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41920" y="2057400"/>
              <a:ext cx="0" cy="42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4600" y="2057400"/>
              <a:ext cx="0" cy="42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567280" y="2057400"/>
              <a:ext cx="0" cy="42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0" y="63403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rce: Bhandarkar &amp; Clark. “Performance from Architecture: Comparing a RISC and a CISC with Similar Hardware Organ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ve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influence may skew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sample size with respect to benchmark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-level vs. system-level 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 of operating system 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Framework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 looks at  MIPS M/2000(from RISC) and VAX 8700(from CIS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cent compilers were used for each of the two machin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e time determined through machine independent feature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ut its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 1 Release benchmark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2590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same underlying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rg1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798048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38088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Pipeline Abstractions  MIPS and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114800"/>
            <a:ext cx="784872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instruction fetch stage matches with VAX micro-     instruction fet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 set of general purpose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ycl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ed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MIPS and VA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50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organizational simila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: CPU Pipeline abstractions match up clos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 Microinstruction stage features a lot of RISC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split I-Cache and D-Cache unlike VAX which has same I+D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larger pag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Cycle time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- A COINCIDENCE ?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much faster MEM access ,FP 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 Benchmarks us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50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used 3 integer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bench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re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nto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7 floating point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fortr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bench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ice2g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rix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sa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p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mcat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du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362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d using                VAX Cv3.1   ,  CCv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114800"/>
            <a:ext cx="4190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d using                VAX Fortran V5.0-1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f77 v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50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219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s used to generate bench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286000"/>
            <a:ext cx="7924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X 87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microinstruction count is k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/ instruction accesses can be stu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7200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M/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ie/pix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sion into basic blocks and counting instruction in each bas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figure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8487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22:17:49Z</dcterms:created>
  <dc:creator>km4aj</dc:creator>
  <dc:description/>
  <dc:language>en-US</dc:language>
  <cp:lastModifiedBy>Department of Computer Science</cp:lastModifiedBy>
  <dcterms:modified xsi:type="dcterms:W3CDTF">2001-11-06T11:16:42Z</dcterms:modified>
  <cp:revision>13</cp:revision>
  <dc:subject/>
  <dc:title>    </dc:title>
</cp:coreProperties>
</file>