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B794-66AD-45C4-A2CF-6959C341B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6503-AEAE-49E3-809D-1BB513FE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1A2B-83FF-4F84-A077-0817B712B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084A-D671-4473-B292-B46EEE94D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43B2-A421-4262-BD09-EB693578F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ADAA-0DCD-445A-9288-C74A4B79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BC5F0-B758-4832-BDAC-D8A59DF2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97A8-C57C-4D2E-9194-F20E8CE0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A463-F733-4709-B0C4-69C1CAD1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BB94-5AFF-418C-A68F-65A34DF9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6E98-81D7-4B08-AE2B-1505BF49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718E-3F3B-4978-8084-7BC8E898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D6D5-DB19-4047-B122-6DDC4C3C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860F-9664-4A12-ABF8-FA1C4E2C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2C35-CF02-4AAB-A228-B07D07A9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E3E0-B1CA-47FB-BD10-BE3EE409F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EC42F-A780-46AA-9B51-C7B923885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BE02-4A20-4187-A459-C04D9C25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D8C8-70B6-4AE7-BFE5-C0A04647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C3F7-E9B7-4520-82A0-F1D1E2E3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2575-5F23-4B09-8F3B-2A00D69A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A3FD-1D7B-4BE9-A1FD-E880B504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1596-FAB4-4203-8EB8-2510A5DC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C1EA-5EFB-4CA4-9E36-E3D781BA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94AC-151C-4D85-8A5B-3FB070F1DC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DB7A-3413-4D93-B8D8-D801662529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SC / CISC Architectures’ Performance comparison assuming similar H/W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487692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iuhua Ca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iam Green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ngdu Hua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umar Manvend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371240" y="10666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ructions and CP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figure1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7543800" cy="4202280"/>
          </a:xfrm>
          <a:prstGeom prst="rect">
            <a:avLst/>
          </a:prstGeom>
          <a:ln w="0">
            <a:noFill/>
          </a:ln>
        </p:spPr>
      </p:pic>
      <p:pic>
        <p:nvPicPr>
          <p:cNvPr id="126" name="figure21" descr=""/>
          <p:cNvPicPr/>
          <p:nvPr/>
        </p:nvPicPr>
        <p:blipFill>
          <a:blip r:embed="rId2"/>
          <a:stretch/>
        </p:blipFill>
        <p:spPr>
          <a:xfrm>
            <a:off x="3886200" y="2971800"/>
            <a:ext cx="2287440" cy="3352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257800" y="990720"/>
            <a:ext cx="2666880" cy="1523880"/>
          </a:xfrm>
          <a:prstGeom prst="cloudCallout">
            <a:avLst>
              <a:gd name="adj1" fmla="val -20893"/>
              <a:gd name="adj2" fmla="val 8416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PS &lt; V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219320" y="10666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ructions and CP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figure1" descr=""/>
          <p:cNvPicPr/>
          <p:nvPr/>
        </p:nvPicPr>
        <p:blipFill>
          <a:blip r:embed="rId1"/>
          <a:stretch/>
        </p:blipFill>
        <p:spPr>
          <a:xfrm>
            <a:off x="533520" y="2319480"/>
            <a:ext cx="8153280" cy="4270320"/>
          </a:xfrm>
          <a:prstGeom prst="rect">
            <a:avLst/>
          </a:prstGeom>
          <a:ln w="0">
            <a:noFill/>
          </a:ln>
        </p:spPr>
      </p:pic>
      <p:pic>
        <p:nvPicPr>
          <p:cNvPr id="130" name="figure4" descr=""/>
          <p:cNvPicPr/>
          <p:nvPr/>
        </p:nvPicPr>
        <p:blipFill>
          <a:blip r:embed="rId2"/>
          <a:stretch/>
        </p:blipFill>
        <p:spPr>
          <a:xfrm>
            <a:off x="2405160" y="2590920"/>
            <a:ext cx="1719000" cy="39621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952880" y="1219320"/>
            <a:ext cx="3200400" cy="1447560"/>
          </a:xfrm>
          <a:prstGeom prst="cloudCallout">
            <a:avLst>
              <a:gd name="adj1" fmla="val -75745"/>
              <a:gd name="adj2" fmla="val 56138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PS exe/ VAX e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371240" y="1066680"/>
            <a:ext cx="4800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ructions and CP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figure1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7620120" cy="4245120"/>
          </a:xfrm>
          <a:prstGeom prst="rect">
            <a:avLst/>
          </a:prstGeom>
          <a:ln w="0">
            <a:noFill/>
          </a:ln>
        </p:spPr>
      </p:pic>
      <p:pic>
        <p:nvPicPr>
          <p:cNvPr id="134" name="figure3" descr=""/>
          <p:cNvPicPr/>
          <p:nvPr/>
        </p:nvPicPr>
        <p:blipFill>
          <a:blip r:embed="rId2"/>
          <a:stretch/>
        </p:blipFill>
        <p:spPr>
          <a:xfrm>
            <a:off x="6019920" y="2895480"/>
            <a:ext cx="1312920" cy="35816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486400" y="1143000"/>
            <a:ext cx="3352680" cy="1371600"/>
          </a:xfrm>
          <a:prstGeom prst="cloudCallout">
            <a:avLst>
              <a:gd name="adj1" fmla="val -11694"/>
              <a:gd name="adj2" fmla="val 8148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X CPI/ MIPS C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5.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523520" y="1066680"/>
            <a:ext cx="5867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ructions and CP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figure1" descr=""/>
          <p:cNvPicPr/>
          <p:nvPr/>
        </p:nvPicPr>
        <p:blipFill>
          <a:blip r:embed="rId1"/>
          <a:stretch/>
        </p:blipFill>
        <p:spPr>
          <a:xfrm>
            <a:off x="1219320" y="2438280"/>
            <a:ext cx="6858000" cy="3819600"/>
          </a:xfrm>
          <a:prstGeom prst="rect">
            <a:avLst/>
          </a:prstGeom>
          <a:ln w="0">
            <a:noFill/>
          </a:ln>
        </p:spPr>
      </p:pic>
      <p:pic>
        <p:nvPicPr>
          <p:cNvPr id="138" name="figure3" descr=""/>
          <p:cNvPicPr/>
          <p:nvPr/>
        </p:nvPicPr>
        <p:blipFill>
          <a:blip r:embed="rId2"/>
          <a:stretch/>
        </p:blipFill>
        <p:spPr>
          <a:xfrm>
            <a:off x="5867280" y="2971800"/>
            <a:ext cx="1094040" cy="3124080"/>
          </a:xfrm>
          <a:prstGeom prst="rect">
            <a:avLst/>
          </a:prstGeom>
          <a:ln w="0">
            <a:noFill/>
          </a:ln>
        </p:spPr>
      </p:pic>
      <p:pic>
        <p:nvPicPr>
          <p:cNvPr id="139" name="figure4" descr=""/>
          <p:cNvPicPr/>
          <p:nvPr/>
        </p:nvPicPr>
        <p:blipFill>
          <a:blip r:embed="rId3"/>
          <a:stretch/>
        </p:blipFill>
        <p:spPr>
          <a:xfrm>
            <a:off x="2819520" y="2743200"/>
            <a:ext cx="1279440" cy="3352680"/>
          </a:xfrm>
          <a:prstGeom prst="rect">
            <a:avLst/>
          </a:prstGeom>
          <a:ln w="0">
            <a:noFill/>
          </a:ln>
        </p:spPr>
      </p:pic>
      <p:pic>
        <p:nvPicPr>
          <p:cNvPr id="140" name="figure31" descr=""/>
          <p:cNvPicPr/>
          <p:nvPr/>
        </p:nvPicPr>
        <p:blipFill>
          <a:blip r:embed="rId4"/>
          <a:stretch/>
        </p:blipFill>
        <p:spPr>
          <a:xfrm>
            <a:off x="6934320" y="2743200"/>
            <a:ext cx="1090440" cy="33526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343400" y="1143000"/>
            <a:ext cx="4114800" cy="1371600"/>
          </a:xfrm>
          <a:prstGeom prst="cloudCallout">
            <a:avLst>
              <a:gd name="adj1" fmla="val 14546"/>
              <a:gd name="adj2" fmla="val 7037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 Effect on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ycles per program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371240" y="10666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ructions and CP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figure1" descr=""/>
          <p:cNvPicPr/>
          <p:nvPr/>
        </p:nvPicPr>
        <p:blipFill>
          <a:blip r:embed="rId1"/>
          <a:stretch/>
        </p:blipFill>
        <p:spPr>
          <a:xfrm>
            <a:off x="533520" y="2055960"/>
            <a:ext cx="8076960" cy="4498920"/>
          </a:xfrm>
          <a:prstGeom prst="rect">
            <a:avLst/>
          </a:prstGeom>
          <a:ln w="0">
            <a:noFill/>
          </a:ln>
        </p:spPr>
      </p:pic>
      <p:pic>
        <p:nvPicPr>
          <p:cNvPr id="144" name="figure3" descr=""/>
          <p:cNvPicPr/>
          <p:nvPr/>
        </p:nvPicPr>
        <p:blipFill>
          <a:blip r:embed="rId2"/>
          <a:stretch/>
        </p:blipFill>
        <p:spPr>
          <a:xfrm>
            <a:off x="5958000" y="2666880"/>
            <a:ext cx="1334880" cy="3810240"/>
          </a:xfrm>
          <a:prstGeom prst="rect">
            <a:avLst/>
          </a:prstGeom>
          <a:ln w="0">
            <a:noFill/>
          </a:ln>
        </p:spPr>
      </p:pic>
      <p:pic>
        <p:nvPicPr>
          <p:cNvPr id="145" name="figure4" descr=""/>
          <p:cNvPicPr/>
          <p:nvPr/>
        </p:nvPicPr>
        <p:blipFill>
          <a:blip r:embed="rId3"/>
          <a:stretch/>
        </p:blipFill>
        <p:spPr>
          <a:xfrm>
            <a:off x="2438280" y="2438280"/>
            <a:ext cx="1541520" cy="4038840"/>
          </a:xfrm>
          <a:prstGeom prst="rect">
            <a:avLst/>
          </a:prstGeom>
          <a:ln w="0">
            <a:noFill/>
          </a:ln>
        </p:spPr>
      </p:pic>
      <p:pic>
        <p:nvPicPr>
          <p:cNvPr id="146" name="figure31" descr=""/>
          <p:cNvPicPr/>
          <p:nvPr/>
        </p:nvPicPr>
        <p:blipFill>
          <a:blip r:embed="rId4"/>
          <a:stretch/>
        </p:blipFill>
        <p:spPr>
          <a:xfrm>
            <a:off x="7189920" y="2286000"/>
            <a:ext cx="1361880" cy="41911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724280" y="1143000"/>
            <a:ext cx="3048120" cy="1143000"/>
          </a:xfrm>
          <a:prstGeom prst="cloudCallout">
            <a:avLst>
              <a:gd name="adj1" fmla="val 29217"/>
              <a:gd name="adj2" fmla="val 11444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ICE is the b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figure32" descr=""/>
          <p:cNvPicPr/>
          <p:nvPr/>
        </p:nvPicPr>
        <p:blipFill>
          <a:blip r:embed="rId5"/>
          <a:stretch/>
        </p:blipFill>
        <p:spPr>
          <a:xfrm>
            <a:off x="533520" y="3048120"/>
            <a:ext cx="8001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218960" y="10666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ructions and CP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figure1" descr=""/>
          <p:cNvPicPr/>
          <p:nvPr/>
        </p:nvPicPr>
        <p:blipFill>
          <a:blip r:embed="rId1"/>
          <a:stretch/>
        </p:blipFill>
        <p:spPr>
          <a:xfrm>
            <a:off x="533520" y="2055960"/>
            <a:ext cx="8076960" cy="4498920"/>
          </a:xfrm>
          <a:prstGeom prst="rect">
            <a:avLst/>
          </a:prstGeom>
          <a:ln w="0">
            <a:noFill/>
          </a:ln>
        </p:spPr>
      </p:pic>
      <p:pic>
        <p:nvPicPr>
          <p:cNvPr id="151" name="figure3" descr=""/>
          <p:cNvPicPr/>
          <p:nvPr/>
        </p:nvPicPr>
        <p:blipFill>
          <a:blip r:embed="rId2"/>
          <a:stretch/>
        </p:blipFill>
        <p:spPr>
          <a:xfrm>
            <a:off x="5958000" y="2666880"/>
            <a:ext cx="1334880" cy="3810240"/>
          </a:xfrm>
          <a:prstGeom prst="rect">
            <a:avLst/>
          </a:prstGeom>
          <a:ln w="0">
            <a:noFill/>
          </a:ln>
        </p:spPr>
      </p:pic>
      <p:pic>
        <p:nvPicPr>
          <p:cNvPr id="152" name="figure4" descr=""/>
          <p:cNvPicPr/>
          <p:nvPr/>
        </p:nvPicPr>
        <p:blipFill>
          <a:blip r:embed="rId3"/>
          <a:stretch/>
        </p:blipFill>
        <p:spPr>
          <a:xfrm>
            <a:off x="2438280" y="2362320"/>
            <a:ext cx="1541520" cy="4038480"/>
          </a:xfrm>
          <a:prstGeom prst="rect">
            <a:avLst/>
          </a:prstGeom>
          <a:ln w="0">
            <a:noFill/>
          </a:ln>
        </p:spPr>
      </p:pic>
      <p:pic>
        <p:nvPicPr>
          <p:cNvPr id="153" name="figure31" descr=""/>
          <p:cNvPicPr/>
          <p:nvPr/>
        </p:nvPicPr>
        <p:blipFill>
          <a:blip r:embed="rId4"/>
          <a:stretch/>
        </p:blipFill>
        <p:spPr>
          <a:xfrm>
            <a:off x="7189920" y="2286000"/>
            <a:ext cx="1361880" cy="4191120"/>
          </a:xfrm>
          <a:prstGeom prst="rect">
            <a:avLst/>
          </a:prstGeom>
          <a:ln w="0">
            <a:noFill/>
          </a:ln>
        </p:spPr>
      </p:pic>
      <p:pic>
        <p:nvPicPr>
          <p:cNvPr id="154" name="figure33" descr=""/>
          <p:cNvPicPr/>
          <p:nvPr/>
        </p:nvPicPr>
        <p:blipFill>
          <a:blip r:embed="rId5"/>
          <a:stretch/>
        </p:blipFill>
        <p:spPr>
          <a:xfrm>
            <a:off x="533520" y="5029200"/>
            <a:ext cx="8001000" cy="13716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495680" y="1066680"/>
            <a:ext cx="3810240" cy="1447920"/>
          </a:xfrm>
          <a:prstGeom prst="cloudCallout">
            <a:avLst>
              <a:gd name="adj1" fmla="val -38291"/>
              <a:gd name="adj2" fmla="val 22193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integer compi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biggest RI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est inst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371240" y="990360"/>
            <a:ext cx="70102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ructions and CP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figure1" descr=""/>
          <p:cNvPicPr/>
          <p:nvPr/>
        </p:nvPicPr>
        <p:blipFill>
          <a:blip r:embed="rId1"/>
          <a:stretch/>
        </p:blipFill>
        <p:spPr>
          <a:xfrm>
            <a:off x="533520" y="2055960"/>
            <a:ext cx="8076960" cy="4498920"/>
          </a:xfrm>
          <a:prstGeom prst="rect">
            <a:avLst/>
          </a:prstGeom>
          <a:ln w="0">
            <a:noFill/>
          </a:ln>
        </p:spPr>
      </p:pic>
      <p:pic>
        <p:nvPicPr>
          <p:cNvPr id="158" name="figure3" descr=""/>
          <p:cNvPicPr/>
          <p:nvPr/>
        </p:nvPicPr>
        <p:blipFill>
          <a:blip r:embed="rId2"/>
          <a:stretch/>
        </p:blipFill>
        <p:spPr>
          <a:xfrm>
            <a:off x="5958000" y="2666880"/>
            <a:ext cx="1334880" cy="3810240"/>
          </a:xfrm>
          <a:prstGeom prst="rect">
            <a:avLst/>
          </a:prstGeom>
          <a:ln w="0">
            <a:noFill/>
          </a:ln>
        </p:spPr>
      </p:pic>
      <p:pic>
        <p:nvPicPr>
          <p:cNvPr id="159" name="figure4" descr=""/>
          <p:cNvPicPr/>
          <p:nvPr/>
        </p:nvPicPr>
        <p:blipFill>
          <a:blip r:embed="rId3"/>
          <a:stretch/>
        </p:blipFill>
        <p:spPr>
          <a:xfrm>
            <a:off x="2438280" y="2362320"/>
            <a:ext cx="1541520" cy="4038480"/>
          </a:xfrm>
          <a:prstGeom prst="rect">
            <a:avLst/>
          </a:prstGeom>
          <a:ln w="0">
            <a:noFill/>
          </a:ln>
        </p:spPr>
      </p:pic>
      <p:pic>
        <p:nvPicPr>
          <p:cNvPr id="160" name="figure31" descr=""/>
          <p:cNvPicPr/>
          <p:nvPr/>
        </p:nvPicPr>
        <p:blipFill>
          <a:blip r:embed="rId4"/>
          <a:stretch/>
        </p:blipFill>
        <p:spPr>
          <a:xfrm>
            <a:off x="7189920" y="2286000"/>
            <a:ext cx="1361880" cy="41911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495680" y="1066680"/>
            <a:ext cx="3810240" cy="1447920"/>
          </a:xfrm>
          <a:prstGeom prst="cloudCallout">
            <a:avLst>
              <a:gd name="adj1" fmla="val -55958"/>
              <a:gd name="adj2" fmla="val 8333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lowest RI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lowest CPI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figure34" descr=""/>
          <p:cNvPicPr/>
          <p:nvPr/>
        </p:nvPicPr>
        <p:blipFill>
          <a:blip r:embed="rId5"/>
          <a:stretch/>
        </p:blipFill>
        <p:spPr>
          <a:xfrm>
            <a:off x="609480" y="3048120"/>
            <a:ext cx="800100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371600" y="990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 Cou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figure5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83822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371240" y="114300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 Cou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figure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8555040" cy="4648320"/>
          </a:xfrm>
          <a:prstGeom prst="rect">
            <a:avLst/>
          </a:prstGeom>
          <a:ln w="0">
            <a:noFill/>
          </a:ln>
        </p:spPr>
      </p:pic>
      <p:pic>
        <p:nvPicPr>
          <p:cNvPr id="167" name="figure7" descr=""/>
          <p:cNvPicPr/>
          <p:nvPr/>
        </p:nvPicPr>
        <p:blipFill>
          <a:blip r:embed="rId2"/>
          <a:stretch/>
        </p:blipFill>
        <p:spPr>
          <a:xfrm>
            <a:off x="1143000" y="2666880"/>
            <a:ext cx="2637000" cy="40388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886200" y="1066680"/>
            <a:ext cx="4572000" cy="1219320"/>
          </a:xfrm>
          <a:prstGeom prst="cloudCallout">
            <a:avLst>
              <a:gd name="adj1" fmla="val -54342"/>
              <a:gd name="adj2" fmla="val 8268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PS per inst &lt; VAX per in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PS also equals VAS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371600" y="10666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 Cou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figure5" descr=""/>
          <p:cNvPicPr/>
          <p:nvPr/>
        </p:nvPicPr>
        <p:blipFill>
          <a:blip r:embed="rId1"/>
          <a:stretch/>
        </p:blipFill>
        <p:spPr>
          <a:xfrm>
            <a:off x="208080" y="1828800"/>
            <a:ext cx="8783640" cy="4572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334120" y="1066680"/>
            <a:ext cx="2895480" cy="838440"/>
          </a:xfrm>
          <a:prstGeom prst="cloudCallout">
            <a:avLst>
              <a:gd name="adj1" fmla="val -62171"/>
              <a:gd name="adj2" fmla="val 13996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PS &lt; V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figure51" descr=""/>
          <p:cNvPicPr/>
          <p:nvPr/>
        </p:nvPicPr>
        <p:blipFill>
          <a:blip r:embed="rId2"/>
          <a:stretch/>
        </p:blipFill>
        <p:spPr>
          <a:xfrm>
            <a:off x="3429000" y="2590920"/>
            <a:ext cx="15541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tline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ces between RISC / CIS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antitative performanc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Instr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 Behaviou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study of one(two ??) benchmarks(fp behaviou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ctors favoring RISC , CIS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itique / Con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371600" y="9144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 Cou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figure5" descr=""/>
          <p:cNvPicPr/>
          <p:nvPr/>
        </p:nvPicPr>
        <p:blipFill>
          <a:blip r:embed="rId1"/>
          <a:stretch/>
        </p:blipFill>
        <p:spPr>
          <a:xfrm>
            <a:off x="208080" y="1828800"/>
            <a:ext cx="8783640" cy="4572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952880" y="1066680"/>
            <a:ext cx="3733920" cy="838440"/>
          </a:xfrm>
          <a:prstGeom prst="cloudCallout">
            <a:avLst>
              <a:gd name="adj1" fmla="val -23046"/>
              <a:gd name="adj2" fmla="val 31420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PS mem&lt; VAX 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figure52" descr=""/>
          <p:cNvPicPr/>
          <p:nvPr/>
        </p:nvPicPr>
        <p:blipFill>
          <a:blip r:embed="rId2"/>
          <a:stretch/>
        </p:blipFill>
        <p:spPr>
          <a:xfrm>
            <a:off x="0" y="4191120"/>
            <a:ext cx="899172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371240" y="990360"/>
            <a:ext cx="6553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figure6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86868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523880" y="9144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figure6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8686800" cy="4724280"/>
          </a:xfrm>
          <a:prstGeom prst="rect">
            <a:avLst/>
          </a:prstGeom>
          <a:ln w="0">
            <a:noFill/>
          </a:ln>
        </p:spPr>
      </p:pic>
      <p:pic>
        <p:nvPicPr>
          <p:cNvPr id="181" name="figure61" descr=""/>
          <p:cNvPicPr/>
          <p:nvPr/>
        </p:nvPicPr>
        <p:blipFill>
          <a:blip r:embed="rId2"/>
          <a:stretch/>
        </p:blipFill>
        <p:spPr>
          <a:xfrm>
            <a:off x="304920" y="3276720"/>
            <a:ext cx="8534160" cy="9903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952880" y="1066680"/>
            <a:ext cx="3733920" cy="838440"/>
          </a:xfrm>
          <a:prstGeom prst="cloudCallout">
            <a:avLst>
              <a:gd name="adj1" fmla="val -38689"/>
              <a:gd name="adj2" fmla="val 21420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highest miss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est RISC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371600" y="9903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4" name="figure6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8686800" cy="47242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572000" y="1371600"/>
            <a:ext cx="3733920" cy="838080"/>
          </a:xfrm>
          <a:prstGeom prst="cloudCallout">
            <a:avLst>
              <a:gd name="adj1" fmla="val -95152"/>
              <a:gd name="adj2" fmla="val 12935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MIPS &gt; some V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figure62" descr=""/>
          <p:cNvPicPr/>
          <p:nvPr/>
        </p:nvPicPr>
        <p:blipFill>
          <a:blip r:embed="rId2"/>
          <a:stretch/>
        </p:blipFill>
        <p:spPr>
          <a:xfrm>
            <a:off x="1371600" y="2895480"/>
            <a:ext cx="1523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0" y="762120"/>
          <a:ext cx="8986680" cy="53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898668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 flipV="1">
            <a:off x="914400" y="1294920"/>
            <a:ext cx="7696080" cy="342900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257800" y="457200"/>
            <a:ext cx="2743200" cy="533520"/>
          </a:xfrm>
          <a:prstGeom prst="wedgeRectCallout">
            <a:avLst>
              <a:gd name="adj1" fmla="val 60416"/>
              <a:gd name="adj2" fmla="val 13333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PS = 2.66 × V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se Stud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pppp benchma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st CPI Ratio, Highest INST Ratio, High RISC fac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number of FP L/S ops on MIPS; High density of double precision operand  specifiers on V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PS has fast FP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X has no instruction overl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Factors Favoring MI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perand specifier decod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hree-register integer ad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X: 4 cycles ; MIPS: 1 cyc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umber of Regist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X: 15 32-bit general re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PS: 32 32-bit general regs and 16 64-bit FP re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Factors Favoring MI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P Hardware/Instruction Overlap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movement between chi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PS has register destination FP ops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imple Jump/branch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X Condition c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Factors Favoring MI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ancy VAX Instruc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ecessary functionality and unnecessary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VAX procedure call and return in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struction Schedul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PS can fill delay slo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Factors Favoring MI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ranslation Buff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PS has a larger page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anch Displacement S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X: 8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PS: 16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the paper sugges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SC has many performance advantages over CIS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ycle L/S instruction (faster,low overhead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wired control  ; vastly reduced chip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gisters/less MEM referenc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INST format,fewer instru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 accesses are not tightly bound to IN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Factors Favoring VA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ig I-stream Constan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ot-taken Branch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ance of the RISC Fac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se correlation with D-cache mi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ghest RISC factor: l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st D-cache miss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ts of function call overhead for V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unaligned mem refs for V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west RISC factor: sp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CISC &amp; RIS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X may be able to catch up to current RISC architectu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gure 4 from pap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SC will incorporate advanced implementation techniqu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X will always play “catch up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T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914400" y="2057400"/>
            <a:ext cx="7652880" cy="4263840"/>
            <a:chOff x="914400" y="2057400"/>
            <a:chExt cx="7652880" cy="4263840"/>
          </a:xfrm>
        </p:grpSpPr>
        <p:sp>
          <p:nvSpPr>
            <p:cNvPr id="209" name=""/>
            <p:cNvSpPr/>
            <p:nvPr/>
          </p:nvSpPr>
          <p:spPr>
            <a:xfrm>
              <a:off x="6654600" y="5671440"/>
              <a:ext cx="1912680" cy="6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3.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41920" y="5671440"/>
              <a:ext cx="1912320" cy="6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2.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27080" y="5671440"/>
              <a:ext cx="1914480" cy="6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1.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914400" y="5671440"/>
              <a:ext cx="1912680" cy="64980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RISC-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54600" y="5023800"/>
              <a:ext cx="19126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3.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741920" y="5023800"/>
              <a:ext cx="19123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2.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27080" y="5023800"/>
              <a:ext cx="19144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1.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914400" y="5023800"/>
              <a:ext cx="1912680" cy="64764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Inst. Rati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54600" y="4374360"/>
              <a:ext cx="191268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10.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41920" y="4374360"/>
              <a:ext cx="191232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5.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27080" y="4374360"/>
              <a:ext cx="191448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3.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14400" y="4374360"/>
              <a:ext cx="1912680" cy="6490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PI Rati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54600" y="3724560"/>
              <a:ext cx="1912680" cy="6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3.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741920" y="3724560"/>
              <a:ext cx="1912320" cy="6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1.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827080" y="3724560"/>
              <a:ext cx="1914480" cy="6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1.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14400" y="3724560"/>
              <a:ext cx="1912680" cy="64980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MIPS CP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654600" y="3074760"/>
              <a:ext cx="1912680" cy="6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17.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741920" y="3074760"/>
              <a:ext cx="1912320" cy="6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9.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827080" y="3074760"/>
              <a:ext cx="1914480" cy="6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5.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914400" y="3074760"/>
              <a:ext cx="1912680" cy="64980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VAX CP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54600" y="2057400"/>
              <a:ext cx="1912680" cy="101736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Ma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741920" y="2057400"/>
              <a:ext cx="1912320" cy="101736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Geometric Mea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827080" y="2057400"/>
              <a:ext cx="1914480" cy="101736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14400" y="2057400"/>
              <a:ext cx="1912680" cy="101736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14400" y="2057400"/>
              <a:ext cx="76528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914400" y="3074760"/>
              <a:ext cx="765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914400" y="3724560"/>
              <a:ext cx="765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914400" y="4374360"/>
              <a:ext cx="765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14400" y="5023800"/>
              <a:ext cx="765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14400" y="5671440"/>
              <a:ext cx="765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14400" y="6321240"/>
              <a:ext cx="76528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14400" y="2057400"/>
              <a:ext cx="0" cy="42638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27080" y="2057400"/>
              <a:ext cx="0" cy="426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41920" y="2057400"/>
              <a:ext cx="0" cy="426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54600" y="2057400"/>
              <a:ext cx="0" cy="426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567280" y="2057400"/>
              <a:ext cx="0" cy="42638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0" y="6340320"/>
            <a:ext cx="67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urce: Bhandarkar &amp; Clark. “Performance from Architecture: Comparing a RISC and a CISC with Similar Hardware Organizati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vea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influence may skew resul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all sample size with respect to benchmark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-level vs. system-level comparis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 of operating system 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Framework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per looks at  MIPS M/2000(from RISC) and VAX 8700(from CIS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recent compilers were used for each of the two machin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e time determined through machine independent features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ut its s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 1 Release benchmarks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25909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same underlying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rg1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7980480" cy="4191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95280" y="380880"/>
            <a:ext cx="6782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PU Pipeline Abstractions  MIPS and V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4114800"/>
            <a:ext cx="7848720" cy="43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PS instruction fetch stage matches with VAX micro-     instruction fetch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 set of general purpose 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ngle cycle instr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ayed bra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out MIPS and VAX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752120"/>
            <a:ext cx="7503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organizational similar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: CPU Pipeline abstractions match up clos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X Microinstruction stage features a lot of RISC fea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PS has split I-Cache and D-Cache unlike VAX which has same I+D Cac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PS has larger page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Cycle time  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-- A COINCIDENCE ?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PS has much faster MEM access ,FP 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c Benchmarks us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752120"/>
            <a:ext cx="7503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have used 3 integer (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n 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benchma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press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qntot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7 floating point (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n fortr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)benchma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ice2g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trix3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sa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pp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mcat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du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809880" y="2362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d using                VAX Cv3.1   ,  CCv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62520" y="4114800"/>
            <a:ext cx="41907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d using                VAX Fortran V5.0-1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PS f77 v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79292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752120"/>
            <a:ext cx="7503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12193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ls used to generate benchma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286000"/>
            <a:ext cx="79246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X 87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mon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microinstruction count is k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/ instruction accesses can be stud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4572000"/>
            <a:ext cx="7848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PS M/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xie/pix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vision into basic blocks and counting instruction in each basic b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447920" y="1143000"/>
            <a:ext cx="5943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ructions and CP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figure1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78487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4T22:17:49Z</dcterms:created>
  <dc:creator>km4aj</dc:creator>
  <dc:description/>
  <dc:language>en-US</dc:language>
  <cp:lastModifiedBy>Department of Computer Science</cp:lastModifiedBy>
  <dcterms:modified xsi:type="dcterms:W3CDTF">2001-11-06T11:16:42Z</dcterms:modified>
  <cp:revision>13</cp:revision>
  <dc:subject/>
  <dc:title>    </dc:title>
</cp:coreProperties>
</file>